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5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1C945-7F0A-475F-BC34-BEBE73CB57AE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F5CDC-E858-42B4-B149-8F51F2B4B115}" type="slidenum">
              <a:rPr b="0" lang="tr-TR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9E195-11D1-46E7-95F1-027FC1A83484}" type="slidenum">
              <a:rPr b="0" lang="tr-TR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8CC-09C3-47AA-A491-E74BD2A1F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CEEE-D22C-4436-B500-B051DD925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A542B-ED83-4F88-A9ED-B0F3F010A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E4ED-CADF-4994-8981-F6F81B267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F999-D213-41A6-87AE-22F5B1F37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F9748-35AC-4F09-BF4A-F15ADF514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93E20-43EB-4AA2-BB42-35B987DFD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E5C40-01F0-462D-AC6B-F6DDCD61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74281-2465-4413-8DCF-81E8D37A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9F74F-3DCC-4912-AE43-9976CB28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23C8B-D162-48D4-9CB8-06AAF6092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0F26F-8771-4C2D-9BC6-9EE0791DC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AAD27-BAF4-4282-8592-52788674B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824F8-1F53-47C3-BE50-D064E2B41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2364-C9D7-4B08-97CF-95F0A6F51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B17FD-019B-4ABA-AE4C-CCF19D80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6CF0-D07C-42B6-A8FB-1D83051BA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20B3B-BBD8-4178-B5A5-18E63828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D83B-33DB-47D3-AA50-0066A936D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F0A-A7DF-4676-9627-5D5BC5C3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D03F-043F-416B-BAEB-572A79A06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3ADFB-1101-42D4-A155-FF1AC8142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197-D384-4165-8FCF-608799B89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99201-6C58-472C-B831-C50E817F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83D7F-90F6-4B44-8C11-3CDF76752C78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733D0-FC5D-4A6F-A415-C80C3D3B7125}" type="slidenum">
              <a:rPr b="0" lang="tr-TR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3573000"/>
            <a:ext cx="6087960" cy="148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660066"/>
                </a:solidFill>
                <a:latin typeface="Tahoma"/>
              </a:rPr>
              <a:t>Uygulamalı </a:t>
            </a:r>
            <a:br>
              <a:rPr sz="4000"/>
            </a:br>
            <a:r>
              <a:rPr b="1" lang="tr-TR" sz="4000" spc="-1" strike="noStrike">
                <a:solidFill>
                  <a:srgbClr val="660066"/>
                </a:solidFill>
                <a:latin typeface="Tahoma"/>
              </a:rPr>
              <a:t>GENEL MUHASEB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4 Dikdörtgen"/>
          <p:cNvSpPr/>
          <p:nvPr/>
        </p:nvSpPr>
        <p:spPr>
          <a:xfrm>
            <a:off x="428760" y="55720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04c8"/>
                </a:solidFill>
                <a:latin typeface="Tahoma"/>
              </a:rPr>
              <a:t>EK 3. ÇÖZÜMLÜ MONOGRAFİ  (7/A ve </a:t>
            </a:r>
            <a:r>
              <a:rPr b="1" lang="tr-TR" sz="2400" spc="-1" strike="noStrike">
                <a:solidFill>
                  <a:srgbClr val="bf0d37"/>
                </a:solidFill>
                <a:latin typeface="Tahoma"/>
              </a:rPr>
              <a:t>7/B</a:t>
            </a:r>
            <a:r>
              <a:rPr b="1" lang="tr-TR" sz="2400" spc="-1" strike="noStrike">
                <a:solidFill>
                  <a:srgbClr val="0404c8"/>
                </a:solidFill>
                <a:latin typeface="Tahoma"/>
              </a:rPr>
              <a:t> Maliyet Muhasebesi  seçenekleri ile çözülmüş bir VAK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C:\Users\hp\Desktop\muhasebe-defteri.jpg"/>
          <p:cNvPicPr/>
          <p:nvPr/>
        </p:nvPicPr>
        <p:blipFill>
          <a:blip r:embed="rId1"/>
          <a:stretch/>
        </p:blipFill>
        <p:spPr>
          <a:xfrm>
            <a:off x="214200" y="154080"/>
            <a:ext cx="8429760" cy="2846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K:\KİTAPLAR\Uygulamalı GENEL MUHASEBE\sunumlar VE METİN\dora 1. baskı\kapak\ön kapk.jpg"/>
          <p:cNvPicPr/>
          <p:nvPr/>
        </p:nvPicPr>
        <p:blipFill>
          <a:blip r:embed="rId2"/>
          <a:stretch/>
        </p:blipFill>
        <p:spPr>
          <a:xfrm>
            <a:off x="0" y="3214800"/>
            <a:ext cx="185724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571400"/>
            <a:ext cx="8642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8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deposundaki giyim eşyalarını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maliyeti 10.000,-TL olan kısmını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alıcı “A” ya 35.400,-TL (KDV % 18)‘y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satmış,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arşılığında 20.000 TL tutarında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senet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ve kalan tutar için ise 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çek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almıştı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C131D-8535-4AF2-AA87-FD84731703C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214200" y="3071880"/>
            <a:ext cx="8715600" cy="37861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0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satış mağazasına doğalgaz sayacı taktırmış ve depozito bedeli olan 500,-TL içi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4.12.201.. tarihi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gerçekleşmek üzere “B”Bankasına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EFT talimatı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(ödeme emri) ver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5B7D6-3C16-45DF-BF38-2487463FB3F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285840" y="3043080"/>
            <a:ext cx="857232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2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bölümü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ullandığı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elektirik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bedeli olarak 1.180,-TL (KDV % 18) v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pazarlama bölümüne </a:t>
            </a:r>
            <a:r>
              <a:rPr b="0" lang="tr-TR" sz="2000" spc="-1" strike="noStrike">
                <a:solidFill>
                  <a:srgbClr val="40458c"/>
                </a:solidFill>
                <a:latin typeface="Tahoma"/>
              </a:rPr>
              <a:t>ait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haberleşme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bedeli olarak 590,-TL (KDV % 18)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peşin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öde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DE87-22AE-452F-AEE8-B616E978D05E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1" name="Picture 7" descr=""/>
          <p:cNvPicPr/>
          <p:nvPr/>
        </p:nvPicPr>
        <p:blipFill>
          <a:blip r:embed="rId3"/>
          <a:stretch/>
        </p:blipFill>
        <p:spPr>
          <a:xfrm>
            <a:off x="357120" y="2986200"/>
            <a:ext cx="8429760" cy="3228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4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ni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2.12.201. tarihi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verdiği EFT talimatının gerçekleşmiş olduğu İnternet Bankacılığı üzerinden alınan dekonttan anlaşılmaktadı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164AC-D85C-419A-BEAE-FB68907C9DAA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tretch/>
        </p:blipFill>
        <p:spPr>
          <a:xfrm>
            <a:off x="500040" y="3043080"/>
            <a:ext cx="8358120" cy="26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0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Belediye’y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binasının emlak vergisi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için 400,-TL öde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54C1-8613-458E-9F5A-488C63A1AB65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6" descr=""/>
          <p:cNvPicPr/>
          <p:nvPr/>
        </p:nvPicPr>
        <p:blipFill>
          <a:blip r:embed="rId3"/>
          <a:stretch/>
        </p:blipFill>
        <p:spPr>
          <a:xfrm>
            <a:off x="428760" y="3081240"/>
            <a:ext cx="8286480" cy="2847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5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bölümü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ullandığı taşıtlarını Kantekin Sigorta şirketin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5.12.201.. tarihinden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itibaren geçerli olmak üzer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5 günlüğüne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toplam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 75,-TL bedel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karşılığı düzenlenen sigorta poliçesi ile sigortalatmıştır. Sigorta bedeli,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sigorta süresinin sonunda ödenecekti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0715A-0D8D-4F83-8F65-B6A7D623395B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6" descr=""/>
          <p:cNvPicPr/>
          <p:nvPr/>
        </p:nvPicPr>
        <p:blipFill>
          <a:blip r:embed="rId3"/>
          <a:stretch/>
        </p:blipFill>
        <p:spPr>
          <a:xfrm>
            <a:off x="428760" y="3500280"/>
            <a:ext cx="8358120" cy="2928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920" y="1571400"/>
            <a:ext cx="8642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7.12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: 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vergi mükellefi olamayan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birkaç kişi bulmuş v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ar-ge bölümünü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500,-TL karşılığında  temizletmiş, boya ve badanasını yaptırmıştır. İşletme düzenlediği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Gider Makbuzu (Pusulası)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üzerinde hizmet bedelinden 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%10 Gelir Vergisi kesintisi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(stopaj)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yaptıktan sonra kalan tutarı elemanlara öde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4BE59-3500-4B89-8CF3-19A4120BE4C1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Picture 6" descr=""/>
          <p:cNvPicPr/>
          <p:nvPr/>
        </p:nvPicPr>
        <p:blipFill>
          <a:blip r:embed="rId3"/>
          <a:stretch/>
        </p:blipFill>
        <p:spPr>
          <a:xfrm>
            <a:off x="214200" y="3357720"/>
            <a:ext cx="857268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31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KDV hesaplarının mahsubu yapılmıştı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358E6-6FCE-4E08-ABCA-F9E0098A52BD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3"/>
          <a:stretch/>
        </p:blipFill>
        <p:spPr>
          <a:xfrm>
            <a:off x="181080" y="2728800"/>
            <a:ext cx="878184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4C479-C42F-4491-9008-26350EBEBD5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Maddi Duran Varlıklar için amortisman yöntemi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azalan bakiyeler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olup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ekonomik ömürleri 8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yıldı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AC6B-F669-4016-9219-FD666F502BD3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9" name="Picture 8" descr=""/>
          <p:cNvPicPr/>
          <p:nvPr/>
        </p:nvPicPr>
        <p:blipFill>
          <a:blip r:embed="rId3"/>
          <a:stretch/>
        </p:blipFill>
        <p:spPr>
          <a:xfrm>
            <a:off x="285840" y="2771640"/>
            <a:ext cx="8429400" cy="30862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bf0d37"/>
                </a:solidFill>
                <a:uFillTx/>
                <a:latin typeface="Tahoma"/>
              </a:rPr>
              <a:t>7/B </a:t>
            </a:r>
            <a:r>
              <a:rPr b="1" lang="tr-TR" sz="4000" spc="-1" strike="noStrike" u="sng">
                <a:solidFill>
                  <a:srgbClr val="00b0f0"/>
                </a:solidFill>
                <a:uFillTx/>
                <a:latin typeface="Tahoma"/>
              </a:rPr>
              <a:t>MALİYET MUHASEBESİ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tr-TR" sz="4000" spc="-1" strike="noStrike">
                <a:solidFill>
                  <a:srgbClr val="00b0f0"/>
                </a:solidFill>
                <a:latin typeface="Tahoma"/>
              </a:rPr>
              <a:t>SEÇENEĞİNE uygun ÇÖZÜM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80F2-2191-4597-9279-2A939DF5B4B6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Picture 5" descr="K:\KİTAPLAR\Uygulamalı GENEL MUHASEBE\sunumlar VE METİN\dora 1. baskı\kapak\ön kapk.jpg"/>
          <p:cNvPicPr/>
          <p:nvPr/>
        </p:nvPicPr>
        <p:blipFill>
          <a:blip r:embed="rId1"/>
          <a:stretch/>
        </p:blipFill>
        <p:spPr>
          <a:xfrm>
            <a:off x="785880" y="285840"/>
            <a:ext cx="185724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3DD1-4305-4095-9E5D-7541B62660B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209520" y="2938320"/>
            <a:ext cx="872496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66"/>
                </a:solidFill>
                <a:latin typeface="Tahoma"/>
              </a:rPr>
              <a:t>GİDER DAĞITIM TABLOSU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E078B-F3E9-4A49-997B-210B59A5B975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2"/>
          <a:stretch/>
        </p:blipFill>
        <p:spPr>
          <a:xfrm>
            <a:off x="285840" y="714240"/>
            <a:ext cx="850104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42960" y="214200"/>
            <a:ext cx="777240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660066"/>
                </a:solidFill>
                <a:latin typeface="Tahoma"/>
              </a:rPr>
              <a:t>GİDER DAĞITIM TABLOSU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22416-B74E-43B8-AAE3-B95FD6DB2B6A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1" name="Picture 2" descr=""/>
          <p:cNvPicPr/>
          <p:nvPr/>
        </p:nvPicPr>
        <p:blipFill>
          <a:blip r:embed="rId2"/>
          <a:stretch/>
        </p:blipFill>
        <p:spPr>
          <a:xfrm>
            <a:off x="428760" y="642960"/>
            <a:ext cx="8429400" cy="5929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2E596-8878-4D6B-91C7-4B0D9BF2D3D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Picture 6" descr=""/>
          <p:cNvPicPr/>
          <p:nvPr/>
        </p:nvPicPr>
        <p:blipFill>
          <a:blip r:embed="rId2"/>
          <a:stretch/>
        </p:blipFill>
        <p:spPr>
          <a:xfrm>
            <a:off x="285840" y="2000160"/>
            <a:ext cx="857232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0F26-C9F7-4335-B0D2-C1D8CA1A0BC7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9" name="Picture 6" descr=""/>
          <p:cNvPicPr/>
          <p:nvPr/>
        </p:nvPicPr>
        <p:blipFill>
          <a:blip r:embed="rId2"/>
          <a:stretch/>
        </p:blipFill>
        <p:spPr>
          <a:xfrm>
            <a:off x="428760" y="1785960"/>
            <a:ext cx="8429400" cy="4143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29EB-9ED0-4117-8B1C-998F97E912DB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85726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C1DDF-2022-4758-836B-337A1D31215A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86439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6F8A-3414-4073-AC8C-E43A830ED775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E66B-D5D4-406B-A19C-4F049750AD93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214200" y="12060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40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9C19A-FA59-43AA-96D1-CF533D4FC149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9" name="Picture 6" descr=""/>
          <p:cNvPicPr/>
          <p:nvPr/>
        </p:nvPicPr>
        <p:blipFill>
          <a:blip r:embed="rId2"/>
          <a:stretch/>
        </p:blipFill>
        <p:spPr>
          <a:xfrm>
            <a:off x="223920" y="857160"/>
            <a:ext cx="869616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660066"/>
                </a:solidFill>
                <a:latin typeface="Tahoma"/>
              </a:rPr>
              <a:t>Ümit ERDEM ve Ortakları Kollektif Şirketi (Şahıs şirketi)</a:t>
            </a:r>
            <a:r>
              <a:rPr b="0" i="1" lang="tr-TR" sz="2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i="1" lang="tr-TR" sz="2000" spc="-1" strike="noStrike">
                <a:solidFill>
                  <a:srgbClr val="660066"/>
                </a:solidFill>
                <a:latin typeface="Tahoma"/>
              </a:rPr>
              <a:t>giyim eşyası </a:t>
            </a:r>
            <a:r>
              <a:rPr b="0" i="1" lang="tr-TR" sz="2000" spc="-1" strike="noStrike">
                <a:solidFill>
                  <a:srgbClr val="660066"/>
                </a:solidFill>
                <a:latin typeface="Tahoma"/>
              </a:rPr>
              <a:t>alım satımı ile uğraşmak üzere 01.12.201.. tarihinde aşağıdaki </a:t>
            </a:r>
            <a:r>
              <a:rPr b="1" i="1" lang="tr-TR" sz="2000" spc="-1" strike="noStrike">
                <a:solidFill>
                  <a:srgbClr val="660066"/>
                </a:solidFill>
                <a:latin typeface="Tahoma"/>
              </a:rPr>
              <a:t>varlık ve borçlarla işe başlamıştır.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90DD-6415-4EC7-9231-42980D36E115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9"/>
          <a:stretch/>
        </p:blipFill>
        <p:spPr>
          <a:xfrm>
            <a:off x="214200" y="1857240"/>
            <a:ext cx="892980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3448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09525-F3FE-4881-B368-39E56EB47A96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3" name="Picture 5" descr=""/>
          <p:cNvPicPr/>
          <p:nvPr/>
        </p:nvPicPr>
        <p:blipFill>
          <a:blip r:embed="rId2"/>
          <a:stretch/>
        </p:blipFill>
        <p:spPr>
          <a:xfrm>
            <a:off x="214200" y="1000080"/>
            <a:ext cx="8572680" cy="564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bf0d37"/>
                </a:solidFill>
                <a:latin typeface="Tahoma"/>
              </a:rPr>
              <a:t>KİTAP EKİNDE: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28400" y="1642680"/>
            <a:ext cx="8429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GENEL TEST SORULARI VE CEVAPLAR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GENEL ARAŞTIRMA VE UYGULAMA SORULAR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ÇÖZÜMLÜ MONOGRAFİ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MONOGRAFİ ÇÖZÜM KAĞID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TEKDÜZEN HESAP PLAN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6" name="3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C205-D005-471A-87ED-68481E8A0557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7" name="Picture 5" descr="K:\KİTAPLAR\Uygulamalı GENEL MUHASEBE\sunumlar VE METİN\dora 1. baskı\kapak\ön kapk.jpg"/>
          <p:cNvPicPr/>
          <p:nvPr/>
        </p:nvPicPr>
        <p:blipFill>
          <a:blip r:embed="rId8"/>
          <a:stretch/>
        </p:blipFill>
        <p:spPr>
          <a:xfrm>
            <a:off x="1214280" y="0"/>
            <a:ext cx="185760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7CAE9-288F-41FE-B89D-DEEC1A4DB40E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c40830"/>
                </a:solidFill>
                <a:latin typeface="Monotype Corsiva"/>
              </a:rPr>
              <a:t>İlginiz için</a:t>
            </a:r>
            <a:r>
              <a:rPr b="1" lang="tr-TR" sz="12800" spc="-1" strike="noStrike">
                <a:solidFill>
                  <a:srgbClr val="c40830"/>
                </a:solidFill>
                <a:latin typeface="Monotype Corsiva"/>
              </a:rPr>
              <a:t>  </a:t>
            </a:r>
            <a:endParaRPr b="0" lang="en-US" sz="1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800" spc="-1" strike="noStrike">
                <a:solidFill>
                  <a:srgbClr val="c40830"/>
                </a:solidFill>
                <a:latin typeface="Monotype Corsiva"/>
              </a:rPr>
              <a:t>T</a:t>
            </a:r>
            <a:r>
              <a:rPr b="1" lang="tr-TR" sz="7200" spc="-1" strike="noStrike">
                <a:solidFill>
                  <a:srgbClr val="c40830"/>
                </a:solidFill>
                <a:latin typeface="Monotype Corsiva"/>
              </a:rPr>
              <a:t>eşekkürler…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1" name="Rectangle 2"/>
          <p:cNvSpPr/>
          <p:nvPr/>
        </p:nvSpPr>
        <p:spPr>
          <a:xfrm>
            <a:off x="428760" y="1357200"/>
            <a:ext cx="792936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b0f0"/>
                </a:solidFill>
                <a:latin typeface="Tahoma"/>
              </a:rPr>
              <a:t>EK 3. ÇÖZÜMLÜ MONOGRAFİ-7/B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2" name="Picture 6" descr="K:\KİTAPLAR\Uygulamalı GENEL MUHASEBE\sunumlar VE METİN\dora 1. baskı\kapak\ön kapk.jpg"/>
          <p:cNvPicPr/>
          <p:nvPr/>
        </p:nvPicPr>
        <p:blipFill>
          <a:blip r:embed="rId1"/>
          <a:stretch/>
        </p:blipFill>
        <p:spPr>
          <a:xfrm>
            <a:off x="714240" y="2214720"/>
            <a:ext cx="18576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45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4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14720" y="3714840"/>
            <a:ext cx="6116400" cy="14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660066"/>
                </a:solidFill>
                <a:latin typeface="Tahoma"/>
              </a:rPr>
              <a:t>Uygulamalı </a:t>
            </a:r>
            <a:br>
              <a:rPr sz="4800"/>
            </a:br>
            <a:r>
              <a:rPr b="1" lang="tr-TR" sz="4800" spc="-1" strike="noStrike">
                <a:solidFill>
                  <a:srgbClr val="660066"/>
                </a:solidFill>
                <a:latin typeface="Tahoma"/>
              </a:rPr>
              <a:t>GENEL MUHASEBE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4" name="Rectangle 2"/>
          <p:cNvSpPr/>
          <p:nvPr/>
        </p:nvSpPr>
        <p:spPr>
          <a:xfrm>
            <a:off x="500040" y="5429160"/>
            <a:ext cx="80726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b0f0"/>
                </a:solidFill>
                <a:latin typeface="Tahoma"/>
              </a:rPr>
              <a:t>EK 3. ÇÖZÜMLÜ MONOGRAFİ-7/B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45" name="Picture 4" descr="C:\Users\hp\Desktop\muhasebe-defteri.jpg"/>
          <p:cNvPicPr/>
          <p:nvPr/>
        </p:nvPicPr>
        <p:blipFill>
          <a:blip r:embed="rId1"/>
          <a:stretch/>
        </p:blipFill>
        <p:spPr>
          <a:xfrm>
            <a:off x="214200" y="154080"/>
            <a:ext cx="8429760" cy="284616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5" descr="K:\KİTAPLAR\Uygulamalı GENEL MUHASEBE\sunumlar VE METİN\dora 1. baskı\kapak\ön kapk.jpg"/>
          <p:cNvPicPr/>
          <p:nvPr/>
        </p:nvPicPr>
        <p:blipFill>
          <a:blip r:embed="rId2"/>
          <a:stretch/>
        </p:blipFill>
        <p:spPr>
          <a:xfrm>
            <a:off x="428760" y="3214800"/>
            <a:ext cx="185724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304920"/>
            <a:ext cx="8501040" cy="119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660066"/>
                </a:solidFill>
                <a:uFillTx/>
                <a:latin typeface="Tahoma"/>
              </a:rPr>
              <a:t>İSTENENLER</a:t>
            </a:r>
            <a:r>
              <a:rPr b="0" lang="tr-TR" sz="2000" spc="-1" strike="noStrike">
                <a:solidFill>
                  <a:srgbClr val="660066"/>
                </a:solidFill>
                <a:latin typeface="Tahoma"/>
              </a:rPr>
              <a:t>  :</a:t>
            </a:r>
            <a:br>
              <a:rPr sz="2000"/>
            </a:br>
            <a:r>
              <a:rPr b="0" lang="tr-TR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r>
              <a:rPr b="1" i="1" lang="tr-TR" sz="2000" spc="-1" strike="noStrike" u="sng">
                <a:solidFill>
                  <a:srgbClr val="660066"/>
                </a:solidFill>
                <a:uFillTx/>
                <a:latin typeface="Tahoma"/>
              </a:rPr>
              <a:t>MONOGRAFİ ÇÖZÜM KAĞIDI</a:t>
            </a:r>
            <a:r>
              <a:rPr b="0" lang="tr-TR" sz="20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r>
              <a:rPr b="1" lang="tr-TR" sz="2000" spc="-1" strike="noStrike">
                <a:solidFill>
                  <a:srgbClr val="660066"/>
                </a:solidFill>
                <a:latin typeface="Tahoma"/>
              </a:rPr>
              <a:t>üzerinde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Kuruluş bilânçosunu düzenleyiniz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Açılış, günlük ve dönemsonu işlemlerini yevmiye defterine (günlük defter) işleyiniz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Açılış, günlük ve dönemsonu işlemlerini defter-i kebire (büyük defter) işleyiniz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Genel Geçici Sağlamayı ve Kesin Sağlamayı düzenleyiniz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Gelir Tablosunu ve  kapanış Bilançosunu düzenleyiniz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66DDA-380B-4C0C-A541-63689212E83D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341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60066"/>
                </a:solidFill>
                <a:latin typeface="Tahoma"/>
              </a:rPr>
              <a:t>Çözüm: a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FA69-0078-49AC-8EE9-B04238AD78B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433440" y="571680"/>
            <a:ext cx="8277120" cy="60004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1F226-F1D4-45BC-A071-0C28BE93E12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341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60066"/>
                </a:solidFill>
                <a:latin typeface="Tahoma"/>
              </a:rPr>
              <a:t>Çözüm: b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1.12.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4 aylığına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Güven Rent a car firmasında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hizmetleri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ullanılmak üzere 2.832,-TL (KDV % 18) bedell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araç kiralamış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, kira bedeli is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peşin ödenmiştir.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2A71F-B7D8-44CB-BC3D-2BB21EA5CCA7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7" descr=""/>
          <p:cNvPicPr/>
          <p:nvPr/>
        </p:nvPicPr>
        <p:blipFill>
          <a:blip r:embed="rId3"/>
          <a:stretch/>
        </p:blipFill>
        <p:spPr>
          <a:xfrm>
            <a:off x="642960" y="2928960"/>
            <a:ext cx="814392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3.12.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ortaklarından Bay M’nin 4.000,-TL tutarındaki  banka kredi borcu için A Bankasına nakit ödeme yapmıştır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70AD-DB7A-4575-B61B-0E360EFF7FB9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285840" y="2857680"/>
            <a:ext cx="8643960" cy="2857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642680"/>
            <a:ext cx="864216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5.12.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nin bankadaki mevduatına 3.000,- TL faiz tahakkuk (işlemiş) etmiş ve banka bu tutardan vergi sorumluluğu gereği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%15 Gelir Vergisi kesintisi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yaptıktan sonra kalanı işletmenin hesabına yatırmıştı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FE486-2732-4BE0-9B6E-A1B261262F2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357120" y="3214800"/>
            <a:ext cx="8429760" cy="3071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9:44Z</dcterms:created>
  <dc:creator>Fatih</dc:creator>
  <dc:description/>
  <dc:language>en-US</dc:language>
  <cp:lastModifiedBy>hp</cp:lastModifiedBy>
  <dcterms:modified xsi:type="dcterms:W3CDTF">2015-09-08T23:55:50Z</dcterms:modified>
  <cp:revision>593</cp:revision>
  <dc:subject/>
  <dc:title>NEW YORK BORSASI VE NASDAQ’TA LİSTEYE ALINMA VE İŞLEM GÖRME KOŞULLARI </dc:title>
</cp:coreProperties>
</file>